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9E5-C5BF-4E59-9C65-CB4AFB1F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:  “Hello my name is Ana Cruz and we are going to present our visual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riana:  Hello my name is Adriana Vera.  We need one cup of water and we pour to the other cup to take it to Cruz and she will continue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:  Lisbey will finish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bey:  This is the final step.  The only thing that you’ll need is; put the disk case on top of the cup and turn it upside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the water stay like that is the force of th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, Lisbey, Adriana:  This is our final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3B4-AF00-410D-A128-58546D00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56E-DB50-45FC-978B-F1CC36A5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ED5-CC48-4F0D-BEFC-87D355F2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9A9-8891-445F-8179-2D74AB63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6184F-2134-4FD6-A856-19F77114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04D53-471E-40DC-8CD2-B563E92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3C53-C3FA-47C8-A0C3-2EE328B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192F2-84A6-45F7-93AF-EE82F58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39EB6-D1D8-484B-AF1A-0547C89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668F-67A6-47F9-9154-788D25C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47E8C-96E3-4284-BE10-80B579C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D9B-EC02-4148-AB65-02CDB3E5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9DD23-EA5D-4FAB-A3A6-4461442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AD4E-B7C2-4AB5-8AB6-CADED6D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D03FE-D4A3-4E5A-B2C1-6DEF3D57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EA24-3590-4502-A6D3-73EE3BA2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90E54-21C4-4CC7-A110-460483BA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82F-0DC4-4E32-A1AF-8D3121D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B49-182F-4D89-8747-094E720C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57A-5FD8-43CC-87DA-DD585E6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FD7-D490-463C-A86D-2EFCFA9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0CB-E23C-4FAB-B9E6-AA9464C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C9F-5034-4AB2-A3F5-83ECA0C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285-4ED9-43A0-8A27-A037380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11E6-1AF5-43E8-A831-6A7A8D2A3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D812-7F43-4B33-B850-D4EB2AD12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arsupply.com/images/plastic-cups.jpg&amp;imgrefurl=http://hipcandy.blogspot.com/2008/07/dress-innovation-on-project-runway.html&amp;usg=__PF8dGBsmgmT-jzYmr9WtiNJk7cs=&amp;h=351&amp;w=500&amp;sz=70&amp;hl=en&amp;start=2&amp;tbnid=h8xhTSTRQqqB-M:&amp;tbnh=91&amp;tbnw=130&amp;prev=/images%3Fq%3Dcups%26gbv%3D2%26hl%3Den%26sa%3D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kangenforall.com/waterCup2.jpg&amp;imgrefurl=http://www.kangenforall.com/&amp;usg=__MUstpQOyS_rg1WupjaWuIs95kHU=&amp;h=251&amp;w=164&amp;sz=7&amp;hl=en&amp;start=2&amp;tbnid=VZ0TKzZgPatMfM:&amp;tbnh=111&amp;tbnw=73&amp;prev=/images%3Fq%3Dwater%2Bcups%26gbv%3D2%26hl%3Den%26sa%3D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Cup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Elevate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I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Ai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Lizbey Bern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na Cru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riana V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32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ater C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Disk 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60440"/>
            <a:ext cx="1600200" cy="11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2057400"/>
            <a:ext cx="1046160" cy="159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095880" y="4267080"/>
            <a:ext cx="1447920" cy="1420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7200" y="1143000"/>
            <a:ext cx="8228880" cy="4113360"/>
            <a:chOff x="457200" y="1143000"/>
            <a:chExt cx="8228880" cy="4113360"/>
          </a:xfrm>
        </p:grpSpPr>
        <p:cxnSp>
          <p:nvCxnSpPr>
            <p:cNvPr id="100" name="_s8205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99800" y="175860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8204"/>
            <p:cNvCxnSpPr>
              <a:stCxn id="104" idx="0"/>
              <a:endCxn id="102" idx="2"/>
            </p:cNvCxnSpPr>
            <p:nvPr/>
          </p:nvCxnSpPr>
          <p:spPr>
            <a:xfrm flipV="1">
              <a:off x="4571280" y="278748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8203"/>
            <p:cNvCxnSpPr>
              <a:stCxn id="106" idx="0"/>
              <a:endCxn id="102" idx="2"/>
            </p:cNvCxnSpPr>
            <p:nvPr/>
          </p:nvCxnSpPr>
          <p:spPr>
            <a:xfrm flipH="1" flipV="1" rot="5400000">
              <a:off x="2719800" y="175896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2" name="_s8199"/>
            <p:cNvSpPr/>
            <p:nvPr/>
          </p:nvSpPr>
          <p:spPr>
            <a:xfrm>
              <a:off x="3337200" y="114300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3 step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8200"/>
            <p:cNvSpPr/>
            <p:nvPr/>
          </p:nvSpPr>
          <p:spPr>
            <a:xfrm>
              <a:off x="45720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1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Fill one cup of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8201"/>
            <p:cNvSpPr/>
            <p:nvPr/>
          </p:nvSpPr>
          <p:spPr>
            <a:xfrm>
              <a:off x="333720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ut disk case on th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cup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8202"/>
            <p:cNvSpPr/>
            <p:nvPr/>
          </p:nvSpPr>
          <p:spPr>
            <a:xfrm>
              <a:off x="621756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3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urn the cup with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he disk case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Upside dow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610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7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PROJ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04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1:59:10Z</dcterms:created>
  <dc:creator>Dalia</dc:creator>
  <dc:description/>
  <dc:language>en-US</dc:language>
  <cp:lastModifiedBy>aselby</cp:lastModifiedBy>
  <dcterms:modified xsi:type="dcterms:W3CDTF">2009-02-27T17:15:48Z</dcterms:modified>
  <cp:revision>7</cp:revision>
  <dc:subject/>
  <dc:title>Cup Elevated In The Air </dc:title>
</cp:coreProperties>
</file>